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</p:sldIdLst>
  <p:sldSz cx="9144000" cy="6858000"/>
  <p:notesSz cx="990758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0" y="0"/>
            <a:ext cx="99072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dt" idx="90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 type="sldImg"/>
          </p:nvPr>
        </p:nvSpPr>
        <p:spPr>
          <a:xfrm>
            <a:off x="3250800" y="510840"/>
            <a:ext cx="3403800" cy="25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 type="ftr" idx="91"/>
          </p:nvPr>
        </p:nvSpPr>
        <p:spPr>
          <a:xfrm>
            <a:off x="0" y="64656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 type="sldNum" idx="92"/>
          </p:nvPr>
        </p:nvSpPr>
        <p:spPr>
          <a:xfrm>
            <a:off x="5611680" y="64656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CA221-E8D3-4B08-A6B3-006D3C2AE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 type="body"/>
          </p:nvPr>
        </p:nvSpPr>
        <p:spPr>
          <a:xfrm>
            <a:off x="990720" y="3233520"/>
            <a:ext cx="7925400" cy="30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99308-ACE2-4082-9519-B3F486AE9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F6FEA-C41D-44D4-B935-582AAFFAC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F24A0-D875-4F8D-9B8B-D98138708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0A646-D875-4B67-8724-8D62E3331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DFDC9-41A2-410D-BF74-66074A8CB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8AC58-F7D4-4768-AD3C-A84211765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79FF2-8109-402C-9963-DE846D76E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651BA-5B54-4262-A2FE-3D4D7093C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50EAF-8741-40FD-924F-CBA8156D0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C1283-9B57-481E-8AE1-A194325C5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E8DAA-7E12-46E6-BBAD-EF7845F5E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B5FBE-3DDD-46AB-B548-9D06237AA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32511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90360" y="3233880"/>
            <a:ext cx="792468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5611680" y="64659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FB18E-C51B-4605-9FCC-66B692F90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42B-B92F-44E4-AA95-8048ED85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4D8-EF52-46F7-A795-33DF01C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E013D-2393-4FBE-839E-D8A983E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C7795-71F3-4B1E-918E-55677A9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BEB12-06E2-406C-A584-5011EEE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D960-A00D-4D23-A772-B26136E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8BB63-0E67-4695-9EDB-91C025E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DBE4A-D211-43AD-B692-70D27E93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09CDB-CEB2-4F59-B54B-3F0F27CD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147A5-6102-49D3-91BF-C20D96BE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D09D7-3C35-4F7E-862E-0A45D1EA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28DAB-8D73-472B-91DE-2D1BFC08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246-5CBD-4773-9127-536BFE5B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C4A23-EC30-45F3-8A33-826E4E86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8BA9-F257-48BB-8AE9-7DB6F5D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76A2B-DB18-408A-B373-77342F00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73FF0-5948-4B94-9B1C-9A66EEE2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1D789-28D6-4ECD-B220-7E60D76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B612D-A142-413C-AB2F-0BE53C0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6FCD0-693D-4EBC-B7CD-A4BA672E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2AA72-092A-4398-B4B7-CDFF02D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1FAC5-46A6-4DC2-A3B6-59855574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5D381-C316-46C4-88CD-8DD2A4C9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BEB-AECC-44CF-84BD-E22DE62A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3786A-5967-4A36-801A-57059BDD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B8BD-411A-4DA0-B5DA-57FCAF90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05661-CB88-4849-B5B8-52FF7F21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45946-6FD7-4743-A2BB-BA0C6F8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CF1AD-C33E-4E9B-85AD-ACCD2FF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2654-0407-4D45-93D9-FBD1F555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F7D5F-543E-45F9-98C1-56ED99B7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3775B-C40B-451C-B9E4-B85F3819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41949-2A75-48E9-A822-FB88079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96F48-42A6-4450-9BB2-37CFC003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E279-59BE-40DB-A6FC-638C3F52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D77FA-126B-4309-9AD7-63F12B09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A93B5-39B4-4585-AD11-8DEFC110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958EA-A0DE-41CD-B141-4CB7C94B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23A1-FF7F-4650-83E2-CA88E94E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30BB-7B23-4CEC-B53B-1773B3E0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1DBC2C-851B-4349-BC39-90876E3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01D7D6-CCCF-42CD-B49F-8447F56D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BC5FCC-A88F-41CD-A8F1-57BF53B9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CE18-9315-4683-A744-FA22C59C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D0BA53-5E8E-46C9-9529-E6838BFB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DBE61E-376B-4D50-A79C-C83CFD0A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567162-C42B-4599-A19D-97532C18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210D6B-8AC5-4EE9-BA15-0E8A1718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7CA063-6CEC-4616-97C3-DEF1A51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3CBC9D-8990-430C-B52D-77B346A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4B9A78-4B3A-43B6-B6FE-D11BA56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E12C70-7451-4D7D-BEFF-E511DF86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CD1401-3E58-45C1-993F-1B667A29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36346C-BA2F-415A-9427-AC74364F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4AD5-0A15-44D6-8BC7-696DE8F2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7B6EDD-AAC5-4379-8EFD-A838D63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A0C4EA-A338-439B-937F-7905F508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AC55B6-B4DD-4CC6-843A-AC4F79F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3E049A-2891-425B-BEFA-A4230892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CB8D8A-6A40-42D3-AC33-11B47257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E0F8CF-C662-4129-9E40-9627C3B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E92573-681C-4978-B67F-8E5B98B1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06202F-1FB2-4F9F-B113-11FEB0D6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F64FCE-BD68-4941-87E9-7A0A604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57E2B0-F745-44F1-9A6D-1022008B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00A-50FF-41F6-899F-F925492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6238B1-9EE7-4EFF-9037-5ADE752E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84F5A4-CAAE-40C6-A7AA-71F4B50E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AC509B-F58D-460E-A98B-5F03F94D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BAD63D-C8E4-4EBE-9386-FA2E10DF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4712A7-5540-4973-A0BF-396B2305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57DD9A-DB58-4EB8-B0F9-0EE0010F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46ABF2-2079-4B27-96EA-7A0EE911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08083D-09A3-4637-B228-94BEA81E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329314-6E83-4CBA-BE42-DCD0ECE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7FAE17-D866-4C47-88A2-21240C1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14F0-6245-4D0C-BF0E-B9D6353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FCB10D-A20C-44EC-92A4-2271F8E2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C26048-F1FA-488F-AF31-3F4F70D6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BB2F47-80D6-4E4E-A47B-39C550A6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475F30-A522-4069-A091-B1F889C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2D7FDC-3CF8-4DDB-913D-6507206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6F5FCE-A965-45F6-979D-BA8B55FF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A94DEE-21BE-4903-B7B2-08D3F2D5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87E001-9BCB-47D3-9BB1-0EE75E41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DBF5C8-C9C7-4C4E-897D-16781070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A20CB3-758A-4F30-970C-4A575902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81B-F4F5-44A9-94DF-025779E0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A2A6-D8EE-4A9E-AC1B-EA695B5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8774AD-D5B8-4D63-A721-C3C710C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38E26C-5ED9-4337-BEAC-A7F9DE4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1AF181A-77E7-4760-A44B-23E78389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41BE6D-62FF-494E-B7AC-7455985D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E10457-8D3E-47E0-9A01-8D290239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45E66D-C2B8-42C5-B14D-D5D01B2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EE31BB1-C85D-4CDA-BFD0-FEFD47D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2171DA-8490-4C21-BBAD-3BBFF12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AFF115-0787-4B65-96F7-98EC41B2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EC68D3-E4C6-4482-BE42-CC0C79E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9E8B-551A-445E-9529-07901B55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1166FA-3CDF-449F-BC6B-7946911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085654-9E69-402D-B352-53304B3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3D8499-8B03-4DA3-A05C-DEB7366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14EB7E-B1A7-4E10-8DD4-D581B505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F6AE6F-41CC-4FF2-8365-B00EEE74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10ADB4-6240-4FD4-B428-63BD2F09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B4CB01-0A9C-41CE-A822-FF1B998C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1051D8-09A9-4453-B966-C6200A07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08D5DD-544D-4EF5-8B2D-12924D6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1615C3-B0DB-4EB6-A3EB-353A741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A04C-FF96-47AA-A29E-3ABFEC49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B59134-8387-4F26-8831-FF6C905B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825911-45BC-46BB-A829-E92043A8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AD1457-28FB-4C94-8172-E321D915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485661C-AB7D-40D3-87B3-3CC43C40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D9EFB7-04AB-4845-90D0-2A72B5BA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3F71DE-30C8-40B1-9803-A6E4F055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301980-064D-46C7-9FB0-29CF25F3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F944A7-F266-4252-AA1D-86C04138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17900E-8040-4C63-95C0-384E9B37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457F22-C50D-4401-A4B5-5ACBDA31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3629-6A4B-45C0-8350-C4DA9AAF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5A6235-249A-4BA2-924F-C7A947FC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292A39-176C-4B99-A908-8B01E798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96A696-7125-4489-8514-8A9E7076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94C505-CD9B-43C9-90BB-ED448B9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17576C-8E8F-4DD2-BD1A-B66B0647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F1CCBE-846D-4FE2-A6E0-9B82DA9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2076C5-4A4B-44FF-AD85-7C39444C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84C0EA-1B8B-4282-9292-E85CAEB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EF1062-C194-418D-8F1B-7817CEDC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4984FF7-9A6D-4FFB-8C5B-7555B82E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788-D460-462D-81EE-62EB5367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92F12F-786E-46D7-A3B9-0AEF77D5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DB212A4-C38D-46B9-83AE-419479A0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C04D9B-A05F-44FB-9C7F-51C830D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04895B-754B-4A0F-BB56-FE896219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ECA8DD-1F36-4101-BFE7-EAC8F6FE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ACB30F4-98D7-476F-AEAC-3D6BE1B6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F788E5-C17D-4F01-9CCB-72611A12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CC51C2-5BA9-4A9C-86A1-4E6337BA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CAF567-7C4F-4C8C-90DD-9DBCA85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0528C0-3918-4417-B050-691EFC5C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3A9ED-90D4-4F7C-943F-8AE2DEA8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BA853D2-F2DB-4E3E-B914-BC59A900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D5F9512-0D16-46EA-9C19-A9A3939C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242D83-5FC9-4817-B8C6-B743192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EEEB3E-FD8D-49C5-8E2E-82D70DCC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4FF927-5528-4FDF-A99E-D5ED0A5F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B389F84-8CBF-4A0A-BAFD-3B6D0426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B1CD22-2BD0-4250-A473-456807A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BAF0CCC-BFAB-4C2E-98E3-2DB07C1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D4D00E2-91D6-46D6-AA19-37F98B03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20A9D0-DF73-454D-A048-B81CA7D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5A87-D7CD-44B8-981A-DCD72A2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BD27A5D-871D-40DE-8E3D-ACD16D3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CCE9C79-31B5-4A37-A657-CCA2C6D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E6B1B7-8165-4A42-8E28-3FAD8CC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B2FFED-A2DB-4BE5-BD76-AF9731D1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39DCAE-1EE7-4E36-A6B6-D68E0577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B87E0C0-01D4-4DFC-A77D-693CBD2A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0DB5E76-AB9E-4015-976A-78EDE08E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2EF7B0F-AD3A-48E2-9A3E-CB6499D5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F69D230-665F-4043-9637-99213D2B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C992D9B-8FAC-4652-9C4A-CD4DF05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B9CA-2104-4D1E-A2D4-2CE2B5B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96BAA5C-FF11-49B7-B244-4EC9745E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8C2E6B9-55AC-4D21-B915-52BA48E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137FD27-BCA8-499C-A167-1F54503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70D7EFE-99B8-420D-BB80-3BEB773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A8AB8C9-6646-49BD-BA28-3F464261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6DD4DE8-63A0-425C-88C4-BE80375B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C9B8EB-C081-45E9-A8C0-F0FF32A9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141EBC-B0CA-48B1-9B31-EBACE7A1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DC431A-371A-4B43-9646-1427CFA2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84E2B8F-D9F7-4D1A-8E92-DA6A4829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964AB-15F8-4663-A47B-258F062D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04E7CC8-97A2-4656-893D-8DC91B8F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1D47E23-2267-4134-8A5F-095FBC9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C653FF-44BB-4101-A03D-C63814A1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A93B5E-6111-4039-80DD-C73B340A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0382E52-6466-4637-9437-8F13651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A98DC87-4E32-4570-BB96-CCACC6C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39A4754-B689-4322-821F-3071674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1CA04F-EA22-4F53-ACB5-807FCB73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700A7A7-F8F6-4703-99F2-9D8E4DBE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72F34FD-74FA-44B3-9319-D29570C1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A28B-809B-4C56-9A70-400A36B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FCFB7B-C763-4181-8505-02BCDB12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DCEF7A-98A2-4AFA-A834-9AFC1429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3C2B63E-8793-42D3-A600-62D879B2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581B00-D7F7-4674-8595-188BAD84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9DB556-5B10-426B-A472-FC51DEF9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808B61-D439-43D7-8400-26082D4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F37942F-2194-4AAE-B1D0-5F9D9E3B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E0291D-F5AF-4988-B926-FEF8BE6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C3A99C6-6D92-4915-B2C9-AA188506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77BB39-B537-4104-BBB7-36F5E7DF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817-07D9-4FAB-B9A2-715E23FB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0F45-5FEA-484F-958F-61E30459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37E755D-5345-4E67-A432-33B65426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8CD6-BD97-4300-A6FD-CC72326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5252-60C3-48C3-809F-0DF6C75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0DCEC93-4463-447F-994F-9DF98FA8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FFE53EF-B17A-42C1-9BA7-4BB2FDF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2CDA677-D2D4-4598-976B-80A23CA1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341A229-BD6B-43A1-B64F-621A0BC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AB7956C-5082-46B5-B8EE-3A636750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BFBB-D435-4890-B2B9-DD35ED9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AEE947-2580-4808-A409-7EF3BA1A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94978CC-2EA1-41F2-A1FE-F7DC1E3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669C226-9A63-4A2E-917E-D59A57AF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D4F5A4-3FD0-49F3-957D-D2B0194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4EE69DF-CA06-4C53-9559-34565EFB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2969CA7-B1F2-4A5A-B003-B85983F6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3613C84-00F7-4942-8A2A-FEACAA6E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65F357-DC34-4A4F-A433-3202473D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FFBEE3-9E6E-4300-A1AC-8C3A2494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BD7521-9D08-495C-9CFD-3538B53D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6A5E-481E-4BCA-BE18-A3EF2423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F84C11-3429-46AF-9E33-1AFA223E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5301A21-F34E-4B0F-89EB-6F49A2FE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3759910-8D40-4BB5-8FB9-5B5F87C6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5523BC3-617C-4C0C-90E5-799AD4C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858C474-785E-420B-B037-A003A8E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18A4A5F-B2F5-45D8-9E0F-7DDC989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104E60-9062-422E-AAB5-34BA8D7E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2B3015B-737A-4B04-AAD9-91E6C147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2209A8F-7BC2-403C-BA9A-798C54A3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2B24D4-318C-42E3-9DAF-6FB4F290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4EDFD-79F6-41C0-9974-DB2696EB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37E7B0-71BA-4B3E-96BD-C2834526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853E27-790E-42D3-8FE3-03239908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FF192A0-01C5-4147-A1BC-06B725A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C51F08-7420-408A-BFF1-90F5311C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9AA4DB7-D890-4B3D-B123-06EC4B2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436EAF-CF74-4C9A-B261-901D284E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A652120-835F-43BA-91AE-858E24C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D1B5844-2231-4AD7-BF51-46B21A95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8ADDE6C-3998-4983-865F-3DF78630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C805D1-6946-4123-A3F1-BCB02328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2C15-3C4B-45CC-BFF6-A5922260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063BA0-5CDA-4623-ABDF-ECB12E8A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0AAAD58-87A1-4696-97AF-CC9A3CCE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0BA1FB1-6373-4771-A7D9-04E0A754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54FE9D2-5F4B-4E17-B799-462C4B8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0C2E395-D763-4ED9-8495-4684BD2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E67F58D-1011-456A-9642-46E4B83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A43BA66-B3BA-410A-96B4-D00C98A5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4E4EFB-4662-4E1E-9980-1D203717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B9AB525-5B6F-4321-887B-65EEB27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69A25BB-9709-40DD-8B13-183DAAB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F7E6-8A41-41F6-AD5E-A359A6D1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B4B5FF0-2FCD-487C-8169-3261B17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010FC67-B58B-416B-A958-2D798B9F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C13E63-91D7-4A8A-90C4-84E580C6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4E49-547A-4036-8094-A2C28E2E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7615-1EE6-4C38-86DC-7F2E6467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00F-EA96-445C-A763-48623D9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99824-8C37-4B51-8A49-1A72A71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4D85C-B68C-4691-98AB-D4223AA8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9CCE-7910-4FF7-BA92-66A73F0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A4A2-113E-40F5-90C9-69CD683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348C4-5DFF-490A-8096-B14F497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58FC-4129-4451-93E6-396A9C7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D27F-E35D-4E88-9F4B-7D6F635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B300-4FE2-484B-B3FC-F50738BC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BA30-B2D8-484E-AC58-97B483C1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C670-AC9A-4D8E-A2B7-37B94C94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0D7-72AC-4FA7-9297-C878808A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9F544-7C37-4D5E-99B7-76C93953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5723F-50F4-4199-BB14-F321F60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95A8-A2E4-4AA7-9FAB-4BAD58B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3ED4F-DD7B-4541-98DD-DD1C1032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63FC1-6882-438A-9C3D-B55B1CD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8B59-AF7E-4B5E-97FE-BD5FF21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464DB-477C-47F9-8DA2-8181DB19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C2EC4-52D7-4673-827D-84568A6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002E-E441-4D1B-BA67-6FDD4441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C95A-917C-4ED8-AD50-7636D4B3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154-5B0A-46CB-84D4-588F680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51C0-56DC-4E93-9B74-EA73A1C6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1BA2-7FCE-4BDD-AC74-7F8F737E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318E-102F-4B55-9BA3-C910C896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45BE4-8AE7-4D8C-A599-3BE6F30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EC7CA-F76F-4ACE-82E0-34AC04C7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C8B5-BAD3-4587-B358-FFB9BC26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F38DE-E869-4169-922E-607BEC9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41401-8F27-4BDB-9E8C-F8A41F5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4591-1FFA-46FE-834B-2EE35F32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7B1D4-C07A-46F7-81F8-6C1AA86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760A-94C1-49CA-A9B4-AED884FA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1E0C-E65F-4ED4-A5A9-BA34972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E88A9-DAC3-444B-AC69-219B0221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D0A1-213D-4A55-8E02-F29F4066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0C22-AFF9-4C47-8D87-1D2450DB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FB4DE-5141-4A24-AFAC-9C532DB5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28B78-7251-47BA-995B-4E703F1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CE60-CF75-4DAF-9B0C-FD53366A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3F83-564B-49BD-901B-AF9D5D37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B59C-7698-4722-BEC6-39E4436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F081A-4D73-48A3-A91E-7212DC7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2ED-A101-49BF-9F34-78450A80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86BB6-257D-4290-B824-4E3BBD3E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B4333-FA86-4FB7-BFED-35F6765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CA75-48DE-4F9A-9F4B-5B90454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322D3-902D-42FC-B6EF-D3F5578A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D898-EB24-4103-8DDF-AFFA84D4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57D5-B8A7-417C-97E6-8EB4D500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49388-B214-4701-9F27-2514B51C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B97C3-BA1D-484E-BA8F-4DA280A8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7FE82-96F5-4CAE-8A1C-8D1A7756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1007-7142-43A0-8509-447E0636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3E7-6495-4E18-A3D7-DE5186D1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AE8B-293F-4A53-B971-0324EBD8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B843-45F5-415B-BAF2-609B27B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07B7F-098D-4CE2-BD34-555F3E89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F1C0-664F-4DD8-AD14-159C118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7E18-5F00-4F93-A057-4701F8F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8819-A000-4FE1-9C03-C2E55599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FA9C-056E-40CC-89E0-3A906178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67663-43FA-49B2-ABEF-25DBA051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83FCC-EF84-4AD2-B61B-F0FEC0CA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5DF8C-EC87-40F8-949E-5B6E95D0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FDCB7-F71A-4ABB-8ADD-B69E47C054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45BAD-30FE-4EA3-B81F-F118ECEE3A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62221-140A-4A0B-A91F-7589DA04F0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9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471F7-B1F3-467B-B880-046BC3756A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91D73-B654-4D52-B658-6EDF59BCC4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0C2F3-9029-4E1B-BDCF-3064ADAECE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5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4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4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4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7A083-BC54-4916-A630-BDEDDE497D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EFD54-728A-4951-9093-2A506CE77742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12422-33A7-41B5-B44F-DC12A4AD08F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5B082-74AA-4538-BB8A-3CCD1688B226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EDB11-E065-45D2-AAC8-421D566171B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76033-BF38-4292-B986-E4CA2EA1CABC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946E9-FEAE-41F6-91CC-EACF96BB2FC8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5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8792E-728E-401C-89AA-C3C6CB75C6A6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5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5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80CA8-9195-4980-BC5B-271B28BB1E5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7C37C-C3B0-4340-B723-98B4111880D9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50BD3-59FE-4DF8-A064-C7D165257E6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6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EE174-757F-4119-9D1B-23F4E3BBE9CF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6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6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1DAD4-D5C7-4312-BB50-E98E6AE6E32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EEF2A-1F7F-4515-A2B7-2047CD7A25CD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C76D3-A920-4B31-94FF-6DCFB72AE25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AAFB0-CD19-46C3-A252-54FAD9955AE0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7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CCBBC-869D-4C25-B2EB-5A08FC32194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B4FFB-574A-4910-8390-B724BBCEC3AB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02B43-B437-42C8-84E6-B9D85F9B42F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21B41-F8A0-433C-9458-837051AD6157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7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E21BC-FC59-4C68-A713-35B6677C3F2B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7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3301C-F624-4412-9979-ED11CDD9DD02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7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65864-FAE2-406B-802C-CC257D65C9B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8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FF5E6-ACD4-4925-B398-3835472F9E5C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8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8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04BB4-B148-47D0-88DE-FCC92F99F81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92DA8-25E8-4A6E-ACE5-925E776762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8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BC5D9-6D5C-4D19-B1D7-DE07A41F98E3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8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8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45C3-0BA6-41EE-AA7F-7B82E4987DB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8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C54F3-397F-47B2-9C3C-F8A625FD0507}" type="datetime">
              <a:rPr b="0" lang="en-US" sz="1000" spc="-1" strike="noStrike">
                <a:solidFill>
                  <a:srgbClr val="404040"/>
                </a:solidFill>
                <a:latin typeface="Calibri"/>
                <a:ea typeface="MS PGothic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8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8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14071-71A5-4A2E-8452-9ABAE9BB146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2632C-FA1D-460F-A043-6F57435774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6827E-1926-405C-9CCC-29C95EA5A6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1B675-5819-4F3B-8249-23B8322AD1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63E2A-C083-4172-B09D-4DD76D94F7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D609A-7D5C-49EB-AE27-03BD5ABFA1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53165-4CAF-4031-990F-6543BAE433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b93d"/>
                </a:solidFill>
                <a:latin typeface="Calibri"/>
              </a:rPr>
              <a:t>Programming and registration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17600" y="5163840"/>
            <a:ext cx="83073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AIS Heads of Languages, 10 September, 2012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9" name="TextBox 3"/>
          <p:cNvSpPr/>
          <p:nvPr/>
        </p:nvSpPr>
        <p:spPr>
          <a:xfrm>
            <a:off x="1171440" y="345960"/>
            <a:ext cx="65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36b9b"/>
                </a:solidFill>
                <a:latin typeface="Calibri"/>
              </a:rPr>
              <a:t>Board of Studies N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is content? (11 -12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9360">
            <a:solidFill>
              <a:srgbClr val="76b6f2"/>
            </a:solidFill>
            <a:miter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Topics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Grammar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Outcomes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The syllabus recognises the importance of tasks as an </a:t>
            </a:r>
            <a:r>
              <a:rPr b="1" lang="en-AU" sz="3000" spc="-1" strike="noStrike">
                <a:solidFill>
                  <a:srgbClr val="76b6f2"/>
                </a:solidFill>
                <a:latin typeface="Calibri"/>
              </a:rPr>
              <a:t>organising principle in structuring a program </a:t>
            </a:r>
            <a:r>
              <a:rPr b="1" lang="en-AU" sz="3000" spc="-1" strike="noStrike">
                <a:solidFill>
                  <a:srgbClr val="404040"/>
                </a:solidFill>
                <a:latin typeface="Calibri"/>
              </a:rPr>
              <a:t>that allows the student to work towards meeting  …  learning outcomes.’ (Beg, Cont, Heritage and BS)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219240" indent="-21924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95" name="Picture 3" descr=""/>
          <p:cNvPicPr/>
          <p:nvPr/>
        </p:nvPicPr>
        <p:blipFill>
          <a:blip r:embed="rId1"/>
          <a:stretch/>
        </p:blipFill>
        <p:spPr>
          <a:xfrm>
            <a:off x="7701120" y="163368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Teaching programs  (5.1 and 5.2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A registered and accredited non-government school must maintain </a:t>
            </a:r>
            <a:r>
              <a:rPr b="1" lang="en-AU" sz="3200" spc="-1" strike="noStrike">
                <a:solidFill>
                  <a:srgbClr val="436b9b"/>
                </a:solidFill>
                <a:latin typeface="Calibri"/>
              </a:rPr>
              <a:t>for each calendar year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eaching programs for each unit of work that correspond to S&amp;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Samples of student work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98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constitutes a teaching program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0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1" name=""/>
          <p:cNvGraphicFramePr/>
          <p:nvPr/>
        </p:nvGraphicFramePr>
        <p:xfrm>
          <a:off x="752400" y="2987640"/>
          <a:ext cx="7994880" cy="3494160"/>
        </p:xfrm>
        <a:graphic>
          <a:graphicData uri="http://schemas.openxmlformats.org/drawingml/2006/table">
            <a:tbl>
              <a:tblPr/>
              <a:tblGrid>
                <a:gridCol w="4065840"/>
                <a:gridCol w="3929040"/>
              </a:tblGrid>
              <a:tr h="34941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it of work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utco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ration/number of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quipment and resources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ess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aching and learning strate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djustments/ext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constitutes ‘quality of educational program’? (for accreditation only) (7.3.2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3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  <p:sp>
        <p:nvSpPr>
          <p:cNvPr id="1404" name=""/>
          <p:cNvSpPr txBox="1"/>
          <p:nvPr/>
        </p:nvSpPr>
        <p:spPr>
          <a:xfrm>
            <a:off x="415440" y="2600280"/>
            <a:ext cx="83314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Consistency between outcomes, S&amp;S, teaching and learning activities, work sampl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eacher evaluation and teacher reflection/evalua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Progressive achievement of studen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Streamli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6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 txBox="1"/>
          <p:nvPr/>
        </p:nvSpPr>
        <p:spPr>
          <a:xfrm>
            <a:off x="415440" y="2600280"/>
            <a:ext cx="83314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eaching and learning activities = tasks and related exercises (where appropriate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Focus on tasks for work samples, evaluation, feedback, assess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 word about what is on the BOS websit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Draft pro forma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c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Who am I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Caveats (one Inspector, your school, 2004, accreditatio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Requirements – scope and sequence, units of wor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streamlining the process’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(2004) A registered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[and accredited] 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non-government school must maintain documentation </a:t>
            </a:r>
            <a:r>
              <a:rPr b="0" lang="en-AU" sz="2800" spc="-1" strike="noStrike">
                <a:solidFill>
                  <a:srgbClr val="436b9b"/>
                </a:solidFill>
                <a:latin typeface="Calibri"/>
              </a:rPr>
              <a:t>for each calendar year of the current registration 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period that include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imetables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and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total number of hours allocat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Resources and equip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Overview of process for reporting achieve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ssessment plan AN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74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Background (cont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An overview of the school’s education program … indicating the scope and sequence of learning units/units of work … in relation to </a:t>
            </a: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[mapped against the content and] </a:t>
            </a: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outcomes  … of Board syllabus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77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is the purpose of a </a:t>
            </a:r>
            <a:r>
              <a:rPr b="1" i="1" lang="en-AU" sz="3600" spc="-1" strike="noStrike">
                <a:solidFill>
                  <a:srgbClr val="f7b93d"/>
                </a:solidFill>
                <a:latin typeface="Calibri"/>
              </a:rPr>
              <a:t>Scope and Sequence</a:t>
            </a: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415440" y="2600280"/>
            <a:ext cx="83091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Board requirement for registration and accredi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Kept for period of registr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AU" sz="2400" spc="-1" strike="noStrike">
                <a:solidFill>
                  <a:srgbClr val="404040"/>
                </a:solidFill>
                <a:latin typeface="Calibri"/>
              </a:rPr>
              <a:t>details the placement, sequence and duration of units’; ‘fundamental to the design of effective teaching’; ‘summary of what is being taught’; ‘good overview’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0" name="Picture 4" descr=""/>
          <p:cNvPicPr/>
          <p:nvPr/>
        </p:nvPicPr>
        <p:blipFill>
          <a:blip r:embed="rId1"/>
          <a:stretch/>
        </p:blipFill>
        <p:spPr>
          <a:xfrm>
            <a:off x="7680240" y="173520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What are the essential elem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opic/unit nam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Topic/unit outcomes – enumerated list is suffici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Duration of learning and placement of topic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404040"/>
                </a:solidFill>
                <a:latin typeface="Calibri"/>
              </a:rPr>
              <a:t>Key content area/s – point form suffici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Calibri"/>
              </a:rPr>
              <a:t>Essential subject requirements (not applicable for languages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1"/>
          <a:stretch/>
        </p:blipFill>
        <p:spPr>
          <a:xfrm>
            <a:off x="7721640" y="167472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Anything else</a:t>
            </a:r>
            <a:r>
              <a:rPr b="0" lang="en-US" sz="3600" spc="-1" strike="noStrike">
                <a:solidFill>
                  <a:srgbClr val="f7b93d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Usually one page for one yea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Additional information may be included in accordance with common practice in particular subject areas or particular school requirements.’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Number of hours?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Resources and equipment?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alibri"/>
              </a:rPr>
              <a:t>Assessment?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6" name="Picture 3" descr=""/>
          <p:cNvPicPr/>
          <p:nvPr/>
        </p:nvPicPr>
        <p:blipFill>
          <a:blip r:embed="rId1"/>
          <a:stretch/>
        </p:blipFill>
        <p:spPr>
          <a:xfrm>
            <a:off x="7781760" y="1598760"/>
            <a:ext cx="10670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7b93d"/>
                </a:solidFill>
                <a:latin typeface="Calibri"/>
              </a:rPr>
              <a:t>What is content? (K – 10 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‘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he content is expressed in the form of </a:t>
            </a:r>
            <a:r>
              <a:rPr b="1" i="1" lang="en-AU" sz="3200" spc="-1" strike="noStrike">
                <a:solidFill>
                  <a:srgbClr val="404040"/>
                </a:solidFill>
                <a:latin typeface="Calibri"/>
              </a:rPr>
              <a:t>learn about 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and </a:t>
            </a:r>
            <a:r>
              <a:rPr b="1" i="1" lang="en-AU" sz="3200" spc="-1" strike="noStrike">
                <a:solidFill>
                  <a:srgbClr val="404040"/>
                </a:solidFill>
                <a:latin typeface="Calibri"/>
              </a:rPr>
              <a:t>learn to </a:t>
            </a: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statements …’ p 18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Grammar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Topics?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89" name="Picture 3" descr=""/>
          <p:cNvPicPr/>
          <p:nvPr/>
        </p:nvPicPr>
        <p:blipFill>
          <a:blip r:embed="rId1"/>
          <a:stretch/>
        </p:blipFill>
        <p:spPr>
          <a:xfrm>
            <a:off x="7658280" y="561672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How many </a:t>
            </a:r>
            <a:r>
              <a:rPr b="1" i="1" lang="en-US" sz="3600" spc="-1" strike="noStrike">
                <a:solidFill>
                  <a:srgbClr val="f7b93d"/>
                </a:solidFill>
                <a:latin typeface="Calibri"/>
              </a:rPr>
              <a:t>Learn abouts/tos</a:t>
            </a:r>
            <a:r>
              <a:rPr b="1" lang="en-US" sz="3600" spc="-1" strike="noStrike">
                <a:solidFill>
                  <a:srgbClr val="f7b93d"/>
                </a:solidFill>
                <a:latin typeface="Calibri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Bearing in mind that the Stage 4 LAs and LTs  were developed both for that Stage and cumulatively, only a selection of LAs and LTs is required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404040"/>
                </a:solidFill>
                <a:latin typeface="Calibri"/>
              </a:rPr>
              <a:t>Make a sensible selection that relates to the teaching and learning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392" name="Picture 3" descr=""/>
          <p:cNvPicPr/>
          <p:nvPr/>
        </p:nvPicPr>
        <p:blipFill>
          <a:blip r:embed="rId1"/>
          <a:stretch/>
        </p:blipFill>
        <p:spPr>
          <a:xfrm>
            <a:off x="7658280" y="1674720"/>
            <a:ext cx="106668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6:32:28Z</dcterms:created>
  <dc:creator/>
  <dc:description/>
  <dc:language>en-US</dc:language>
  <cp:lastModifiedBy/>
  <dcterms:modified xsi:type="dcterms:W3CDTF">2012-09-06T01:44:43Z</dcterms:modified>
  <cp:revision>1</cp:revision>
  <dc:subject/>
  <dc:title/>
</cp:coreProperties>
</file>